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460BC-3AB0-4F17-8670-3AFD2E3F4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62427-39EA-47F0-83B7-03467DB4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848D-E79A-482D-80A4-0EFE6A04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BF66-98FF-4242-A459-531BC915B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343FE-1354-4595-B80F-E9B2D3115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9A20-83C3-480F-8FDC-8877B9FF3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65E2-623D-46D5-88F9-321FB18F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1FEE-6F21-47C1-8FFD-62CE5DB3A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6398B-51D8-4819-BE7B-636956D6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DA77-D965-4646-B0A5-BCD6E923D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54C0-7466-4FD1-BFA0-5F9F549B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05B3-3104-4708-BBBD-652E8B0BE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7103-2FCD-4FF6-9C79-5B8B19DC9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1523880" y="4114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aptat după Manualul de Istorie, clasa a V-a, Zoe Petre,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graphicFrame>
        <p:nvGraphicFramePr>
          <p:cNvPr id="48" name=""/>
          <p:cNvGraphicFramePr/>
          <p:nvPr/>
        </p:nvGraphicFramePr>
        <p:xfrm>
          <a:off x="1523880" y="1371600"/>
          <a:ext cx="6096240" cy="4067280"/>
        </p:xfrm>
        <a:graphic>
          <a:graphicData uri="http://schemas.openxmlformats.org/presentationml/2006/ole">
            <p:oleObj r:id="rId2" spid="">
              <p:embed/>
              <p:pic>
                <p:nvPicPr>
                  <p:cNvPr id="49" name="" descr=""/>
                  <p:cNvPicPr/>
                  <p:nvPr/>
                </p:nvPicPr>
                <p:blipFill>
                  <a:blip r:embed="rId3"/>
                  <a:stretch/>
                </p:blipFill>
                <p:spPr>
                  <a:xfrm>
                    <a:off x="1523880" y="13716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13:24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